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18313" cy="9129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18400" cy="912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471600" y="160200"/>
            <a:ext cx="5868720" cy="439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09320" y="4765680"/>
            <a:ext cx="5995800" cy="374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2800" y="8593200"/>
            <a:ext cx="527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000" spc="-1" strike="noStrike">
                <a:solidFill>
                  <a:srgbClr val="f8f8d3"/>
                </a:solidFill>
                <a:latin typeface="Arial"/>
              </a:rPr>
              <a:t>Introduction to Oracle: SQL and PL/SQL  15</a:t>
            </a:r>
            <a:r>
              <a:rPr b="1" lang="en-US" sz="1000" spc="-1" strike="noStrike">
                <a:solidFill>
                  <a:srgbClr val="f8f8d3"/>
                </a:solidFill>
                <a:latin typeface="Times New Roman"/>
              </a:rPr>
              <a:t>-</a:t>
            </a:r>
            <a:fld id="{48885A3B-2A72-48B2-926B-C775CDE76E11}" type="slidenum">
              <a:rPr b="1" lang="en-US" sz="1000" spc="-1" strike="noStrike">
                <a:solidFill>
                  <a:srgbClr val="f8f8d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d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" Target="../slides/slide3.xml"/><Relationship Id="rId6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" Target="../slides/slide4.xml"/><Relationship Id="rId6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" Target="../slides/slide7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" Target="../slides/slide9.xml"/><Relationship Id="rId6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471600" y="195120"/>
            <a:ext cx="5895720" cy="4419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44240" y="4781160"/>
            <a:ext cx="5932440" cy="3662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chedule: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iming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op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60–120 minutes</a:t>
            </a: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Practic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892080"/>
                <a:tab algn="l" pos="189720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60–120 minutes</a:t>
            </a: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Tot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09800" y="1230480"/>
            <a:ext cx="5244840" cy="222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8280" y="450720"/>
            <a:ext cx="5931000" cy="767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actice 15 (continu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ate a view named TITLE_AVAIL to show the movie titles and the availability of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ch copy and its expected return date if rented. Query all rows from the view. Order the results by title.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TLE              COPY_ID STATUS     EXP_RET_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----------------- ------- ---------- ------------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Alien Again              1 AVAILAB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Alien Again              2 RENTED     05-NOV-97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Miracles on Ice          1 AVAILAB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My Day Off               1 AVAILAB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My Day Off               2 AVAILAB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My Day Off               3 RENTED     06-NOV-97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Soda Gang                1 AVAILABLE  04-NOV-97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The Glob                 1 AVAILAB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Willie and Christmas Too 1 AVAILABLE  05-NOV-97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9 rows selected.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ke changes to data in the table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Add a new title. The movie is “Interstellar Wars,” which is rated PG and classified as 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sci-fi movie. The release date is 07-JUL-77. The description is “Futuristic interstellar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on movie. Can the rebels save the humans from the evil empire?” Be sure to add a titl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y record for two copie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.  Enter two reservations. One reservation is for Carmen Velasquez, who wants to rent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“Interstellar Wars.” The other is for Mark Quick-to-See, who wants to rent “Soda Gang.”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11240" y="4786200"/>
            <a:ext cx="5243400" cy="162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23840" y="1436760"/>
            <a:ext cx="5230800" cy="246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56840" y="458640"/>
            <a:ext cx="5932440" cy="803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actice 15 (continu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.  Customer Carmen Velasquez rents the movie “Interstellar Wars,” copy 1. Remove he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reservation for the movie. Record the information about the rental. Allow the default value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or the expected return date to be used. Verify that the rental was recorded by using the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view you created.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TLE                    COPY_ID STATUS    EXP_RET_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----------------------  ------- --------- ----------------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Alien Again                    1 AVAILAB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Alien Again                    2 RENTED    05-NOV-97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Interstellar Wars              1 RENTED    08-NOV-97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Interstellar Wars              2 AVAILAB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Miracles on Ice                1 AVAILAB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My Day Off                     1 AVAILAB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My Day Off                     2 AVAILAB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My Day Off                     3 RENTED    06-NOV-97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Soda Gang                      1 AVAILABLE 04-NOV-97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The Glob                       1 AVAILAB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Willie and Christmas Too       1 AVAILABLE 05-NOV-97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11 rows selected.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ke a modification to one of the table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dd a PRICE column to the TITLE table to record the purchase price of the video. Th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lumn should have a total length of eight digits and two decimal places. Verify you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odifications.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Null?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Typ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-------------- ---------  -----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TITLE_ID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NOT NULL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NUMBER(10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TITL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NOT NULL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VARCHAR2(60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DESCRIPTION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NOT NULL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VARCHAR2(400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RATING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VARCHAR2(4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CATEGORY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VARCHAR2(20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RELEASE_DAT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DAT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PRIC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NUMBER(8,2)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69440" y="468360"/>
            <a:ext cx="5932440" cy="797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actice 15 (continu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.  Create a script named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p15q7b.sq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to update each video with a price according to th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following list.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Have the title_id numbers available for this exercise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.  Ensure that in the future all titles will contain a price value. Verify the constraint.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NSTRAINT_NAME     C  SEARCH_CONDITIO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------------------  -- -----------------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TITLE_PRICE_NN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C  PRICE IS NOT NUL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187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ate a report titled Customer History Report. This report will contain each customer’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story of renting videos. Be sure to include the customer name, movie rented, dates of th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al, and duration of rentals. Total the number of rentals for all customers for the reporting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iod. Save the script in a file named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p15q8.sql.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MBER           TITLE                    BOOK_DATE DURATIO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---------------- ------------------------ --------- --------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Carmen Velasquez Willie and Christmas Too 03-NOV-97        1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                 Alien Again              09-AUG-9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nterstellar Wars        10-AUG-9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LaDoris Ngao     My Day Off               08-AUG-9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olly Urguhart   Soda Gang                06-AUG-98        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15920" y="4630680"/>
            <a:ext cx="5238720" cy="19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15920" y="3098880"/>
            <a:ext cx="5238720" cy="59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90720" y="1322280"/>
          <a:ext cx="560232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22280"/>
                    <a:ext cx="560232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471600" y="195120"/>
            <a:ext cx="5895720" cy="44197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44240" y="4704840"/>
            <a:ext cx="5932440" cy="33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orkshop Overview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this workshop you will build a set of database tables for a video application. Once you create the tables, you will insert, update, and delete records in a video store database and generate a report. The database contains only the essential table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f you want to build the tables, you can execute the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buildtab.sq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cript in SQL*Plus. If you want to drop the tables, you can execute the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dropvid.sq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cript in SQL*Plus. Then you can execute the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buildvid.sq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cript in SQL*Plus to create and populate the tables. If you use the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buildvid.sql scrip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build and populate the tables, start with Practice #6b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47840" y="439200"/>
            <a:ext cx="6006960" cy="638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actice 1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ate the tables based on the following table instance charts. Choose the appropriate datatyp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be sure to add integrity constraint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Table name: MEM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150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Table name: TITL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150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31880" y="1411200"/>
          <a:ext cx="57531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880" y="1411200"/>
                    <a:ext cx="57531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28640" y="3875040"/>
          <a:ext cx="5913360" cy="29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640" y="3875040"/>
                    <a:ext cx="591336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60080" y="438120"/>
            <a:ext cx="6081480" cy="708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actice 15 (continu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.  Table name: TITLE_COP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.  Table name: RENT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17560" y="1015920"/>
          <a:ext cx="57405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015920"/>
                    <a:ext cx="57405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814320" y="4257720"/>
          <a:ext cx="5581800" cy="25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4320" y="4257720"/>
                    <a:ext cx="558180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3840" y="5040360"/>
            <a:ext cx="5243760" cy="24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23840" y="3630600"/>
            <a:ext cx="5243760" cy="130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17720" y="1025640"/>
          <a:ext cx="563400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7720" y="1025640"/>
                    <a:ext cx="563400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3960" y="442800"/>
            <a:ext cx="5958000" cy="783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actice 15 (continued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.  Table name: RESERVA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rify that the tables and constraints were created properly by checking the data dictionary.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ABLE_NAM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-----------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MEMBE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RENTAL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RESERVA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TIT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TITLE_COPY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NSTRAINT_NAME                C TABLE_NAM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------------------------------ - --------------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MEMBER_LAST_NAME_NN            C MEMBE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MEMBER_JOIN_DATE_NN            C MEMBE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MEMBER_MEMBER_ID_PK            P MEMBE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RENTAL_BOOK_DATE_COPY_TITLE_PK P RENTAL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RENTAL_MEMBER_ID_FK            R RENTAL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RENTAL_COPY_ID_TITLE_ID_FK     R RENTAL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RESERVATION_RESDATE_MEM_TIT_PK P RESERVA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RESERVATION_MEMBER_ID          R RESERVA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RESERVATION_TITLE_ID           R RESERVA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17 rows selecte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09800" y="3773520"/>
            <a:ext cx="5252760" cy="159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09800" y="1941480"/>
            <a:ext cx="525600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6840" y="442440"/>
            <a:ext cx="5932440" cy="789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4604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actice 15 (continu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4604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ate sequences to uniquely identify each row in the MEMBER table and the TITLE table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4604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Member number for the MEMBER table: start with 101; do not allow caching of th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values. Name the sequence member_id_seq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4604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Title number for the TITLE table: start with 92; no caching. Name the sequenc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tle_id_seq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44604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.  Verify the existence of the sequences in the data dictionary.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604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EQUENCE_NAME  INCREMENT_BY LAST_NUMBE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-------------- ------------ -----------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TITLE_ID_SEQ              1          92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MEMBER_ID_SEQ             1         1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150"/>
              </a:spcBef>
              <a:buNone/>
              <a:tabLst>
                <a:tab algn="l" pos="0"/>
                <a:tab algn="l" pos="44604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0">
              <a:spcBef>
                <a:spcPts val="414"/>
              </a:spcBef>
              <a:buNone/>
              <a:tabLst>
                <a:tab algn="l" pos="0"/>
                <a:tab algn="l" pos="44604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 data to the tables. Create a script for each set of data to ad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4604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Add movie titles to the TITLE table. Write a script to enter the movie information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Save the script as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p15q4a.sql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Use the sequences to uniquely identify each title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Remember that single quotation marks in a character field must be specially handled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rify your additions.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604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TL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------------------------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Willie and Christmas Too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Alien Agai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The Glob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My Day Off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Miracles on Ic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Soda Gang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6 rows selecte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604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6840" y="436320"/>
            <a:ext cx="5932440" cy="793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actice 1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113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69840" y="893880"/>
          <a:ext cx="5689800" cy="43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893880"/>
                    <a:ext cx="568980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456840" y="455760"/>
            <a:ext cx="5932440" cy="797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12000"/>
              </a:lnSpc>
              <a:spcAft>
                <a:spcPts val="326"/>
              </a:spcAft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actice 1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Add data to the MEMBER table. Write a script named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p15q4b.sq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to prompt user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or the information. Execute the script. Be sure to use the sequence to add the member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umber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61920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87480" y="1353960"/>
          <a:ext cx="5433840" cy="21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353960"/>
                    <a:ext cx="543384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6840" y="464760"/>
            <a:ext cx="5932440" cy="795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actice 15 (continu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.  Add the following movie copies in the TITLE_COPY table: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Have the title_id numbers available for this exercise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.  Add the following rentals to the RENTAL table: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Title number may be different depending on sequence number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072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6840" y="1133640"/>
          <a:ext cx="5423040" cy="21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133640"/>
                    <a:ext cx="542304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992160" y="3400560"/>
          <a:ext cx="549756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2160" y="3400560"/>
                    <a:ext cx="5497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58960" y="381168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328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8960" y="381168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3280" y="381168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5920" y="179496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3240" y="179496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58960" y="381168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5920" y="381168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3240" y="381168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8960" y="179496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3280" y="179496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22320" y="510840"/>
            <a:ext cx="7299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-914400" algn="ctr"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3280" y="179496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8960" y="381168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58960" y="179496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328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3280" y="381168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328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58960" y="381168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58960" y="381168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328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8960" y="381168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3280" y="381168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5920" y="179496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3240" y="179496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58960" y="381168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5920" y="381168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3240" y="381168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3280" y="179496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22320" y="510840"/>
            <a:ext cx="7299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-914400" algn="ctr"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179496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58960" y="381168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328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3280" y="381168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3280" y="179496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58960" y="381168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648640" cy="6039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8960" y="1794960"/>
            <a:ext cx="7385040" cy="386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341280" indent="-226800">
              <a:lnSpc>
                <a:spcPct val="95000"/>
              </a:lnSpc>
              <a:spcBef>
                <a:spcPts val="1225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741240" indent="-285480">
              <a:lnSpc>
                <a:spcPct val="95000"/>
              </a:lnSpc>
              <a:spcBef>
                <a:spcPts val="1225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225"/>
              </a:spcBef>
              <a:buClr>
                <a:srgbClr val="f8f8d3"/>
              </a:buClr>
              <a:buFont typeface="Times New Roman"/>
              <a:buChar char="–"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225"/>
              </a:spcBef>
              <a:buClr>
                <a:srgbClr val="f8f8d3"/>
              </a:buClr>
              <a:buFont typeface="Times New Roman"/>
              <a:buChar char="•"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225"/>
              </a:spcBef>
              <a:buClr>
                <a:srgbClr val="f8f8d3"/>
              </a:buClr>
              <a:buFont typeface="Times New Roman"/>
              <a:buChar char="•"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225"/>
              </a:spcBef>
              <a:buClr>
                <a:srgbClr val="f8f8d3"/>
              </a:buClr>
              <a:buFont typeface="Times New Roman"/>
              <a:buChar char="•"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0880" y="6323040"/>
            <a:ext cx="110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15-</a:t>
            </a:r>
            <a:fld id="{40FD9FEB-C65A-49B1-B879-CA14AF525FC1}" type="slidenum">
              <a:rPr b="0" lang="en-US" sz="12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d3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634080" y="6321600"/>
            <a:ext cx="1604880" cy="177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415960" y="631188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0066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 Oracle Corporation, 1998. All rights reserved.</a:t>
            </a:r>
            <a:endParaRPr b="0" lang="en-US" sz="12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803160" y="4649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d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d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648640" cy="6039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34080" y="6335640"/>
            <a:ext cx="1604880" cy="17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5960" y="631188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0066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 Oracle Corporation, 1998. All rights reserved.</a:t>
            </a:r>
            <a:endParaRPr b="0" lang="en-US" sz="12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6640" y="2666520"/>
            <a:ext cx="7302600" cy="1181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4040" y="1104840"/>
            <a:ext cx="1028520" cy="1028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460023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57560" y="1154160"/>
            <a:ext cx="1032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15</a:t>
            </a:r>
            <a:endParaRPr b="0" lang="en-US" sz="6000" spc="-1" strike="noStrike">
              <a:solidFill>
                <a:srgbClr val="f8f8d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8f8d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8f8d3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25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1" lang="en-US" sz="2800" spc="-1" strike="noStrike">
                <a:solidFill>
                  <a:srgbClr val="f8f8d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8f8d3"/>
              </a:solidFill>
              <a:latin typeface="Arial"/>
            </a:endParaRPr>
          </a:p>
          <a:p>
            <a:pPr lvl="3" marL="914400" indent="457200" algn="ctr">
              <a:spcBef>
                <a:spcPts val="499"/>
              </a:spcBef>
              <a:buClr>
                <a:srgbClr val="f8f8d3"/>
              </a:buClr>
              <a:buFont typeface="Times New Roman"/>
              <a:buChar char="–"/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000" spc="-1" strike="noStrike">
                <a:solidFill>
                  <a:srgbClr val="f8f8d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d3"/>
              </a:solidFill>
              <a:latin typeface="Times New Roman"/>
            </a:endParaRPr>
          </a:p>
          <a:p>
            <a:pPr lvl="4" marL="914400" indent="914400" algn="ctr">
              <a:spcBef>
                <a:spcPts val="499"/>
              </a:spcBef>
              <a:buClr>
                <a:srgbClr val="f8f8d3"/>
              </a:buClr>
              <a:buFont typeface="Times New Roman"/>
              <a:buChar char="•"/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000" spc="-1" strike="noStrike">
                <a:solidFill>
                  <a:srgbClr val="f8f8d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d3"/>
              </a:solidFill>
              <a:latin typeface="Times New Roman"/>
            </a:endParaRPr>
          </a:p>
          <a:p>
            <a:pPr lvl="5" marL="914400" indent="914400">
              <a:spcBef>
                <a:spcPts val="499"/>
              </a:spcBef>
              <a:buClr>
                <a:srgbClr val="f8f8d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d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d3"/>
              </a:solidFill>
              <a:latin typeface="Times New Roman"/>
            </a:endParaRPr>
          </a:p>
          <a:p>
            <a:pPr lvl="6" marL="914400" indent="914400">
              <a:spcBef>
                <a:spcPts val="499"/>
              </a:spcBef>
              <a:buClr>
                <a:srgbClr val="f8f8d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d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d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6640" y="2666520"/>
            <a:ext cx="7302600" cy="1181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QL Workshop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57160" y="1794960"/>
            <a:ext cx="7385040" cy="49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7385040" cy="49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7385040" cy="49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Workshop Overview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7160" y="1794960"/>
            <a:ext cx="7385040" cy="49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12000"/>
          </a:bodyPr>
          <a:p>
            <a:pPr lvl="1" marL="40680" indent="-27000">
              <a:lnSpc>
                <a:spcPct val="95000"/>
              </a:lnSpc>
              <a:spcBef>
                <a:spcPts val="1225"/>
              </a:spcBef>
              <a:buClr>
                <a:srgbClr val="ffcc66"/>
              </a:buClr>
              <a:buFont typeface="Arial"/>
              <a:buChar char="•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8f8d3"/>
                </a:solidFill>
                <a:latin typeface="Arial"/>
              </a:rPr>
              <a:t>Creating tables and sequences</a:t>
            </a:r>
            <a:endParaRPr b="1" lang="en-US" sz="2800" spc="-1" strike="noStrike">
              <a:solidFill>
                <a:srgbClr val="f8f8d3"/>
              </a:solidFill>
              <a:latin typeface="Arial"/>
            </a:endParaRPr>
          </a:p>
          <a:p>
            <a:pPr lvl="1" marL="40680" indent="-27000">
              <a:lnSpc>
                <a:spcPct val="95000"/>
              </a:lnSpc>
              <a:spcBef>
                <a:spcPts val="1225"/>
              </a:spcBef>
              <a:buClr>
                <a:srgbClr val="ffcc66"/>
              </a:buClr>
              <a:buFont typeface="Arial"/>
              <a:buChar char="•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8f8d3"/>
                </a:solidFill>
                <a:latin typeface="Arial"/>
              </a:rPr>
              <a:t>Modifying data in the tables</a:t>
            </a:r>
            <a:endParaRPr b="1" lang="en-US" sz="2800" spc="-1" strike="noStrike">
              <a:solidFill>
                <a:srgbClr val="f8f8d3"/>
              </a:solidFill>
              <a:latin typeface="Arial"/>
            </a:endParaRPr>
          </a:p>
          <a:p>
            <a:pPr lvl="1" marL="40680" indent="-27000">
              <a:lnSpc>
                <a:spcPct val="95000"/>
              </a:lnSpc>
              <a:spcBef>
                <a:spcPts val="1225"/>
              </a:spcBef>
              <a:buClr>
                <a:srgbClr val="ffcc66"/>
              </a:buClr>
              <a:buFont typeface="Arial"/>
              <a:buChar char="•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8f8d3"/>
                </a:solidFill>
                <a:latin typeface="Arial"/>
              </a:rPr>
              <a:t>Modifying a table definition</a:t>
            </a:r>
            <a:endParaRPr b="1" lang="en-US" sz="2800" spc="-1" strike="noStrike">
              <a:solidFill>
                <a:srgbClr val="f8f8d3"/>
              </a:solidFill>
              <a:latin typeface="Arial"/>
            </a:endParaRPr>
          </a:p>
          <a:p>
            <a:pPr lvl="1" marL="40680" indent="-27000">
              <a:lnSpc>
                <a:spcPct val="95000"/>
              </a:lnSpc>
              <a:spcBef>
                <a:spcPts val="1225"/>
              </a:spcBef>
              <a:buClr>
                <a:srgbClr val="ffcc66"/>
              </a:buClr>
              <a:buFont typeface="Arial"/>
              <a:buChar char="•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8f8d3"/>
                </a:solidFill>
                <a:latin typeface="Arial"/>
              </a:rPr>
              <a:t>Creating a view</a:t>
            </a:r>
            <a:endParaRPr b="1" lang="en-US" sz="2800" spc="-1" strike="noStrike">
              <a:solidFill>
                <a:srgbClr val="f8f8d3"/>
              </a:solidFill>
              <a:latin typeface="Arial"/>
            </a:endParaRPr>
          </a:p>
          <a:p>
            <a:pPr lvl="1" marL="40680" indent="-27000">
              <a:lnSpc>
                <a:spcPct val="95000"/>
              </a:lnSpc>
              <a:spcBef>
                <a:spcPts val="1225"/>
              </a:spcBef>
              <a:buClr>
                <a:srgbClr val="ffcc66"/>
              </a:buClr>
              <a:buFont typeface="Arial"/>
              <a:buChar char="•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8f8d3"/>
                </a:solidFill>
                <a:latin typeface="Arial"/>
              </a:rPr>
              <a:t>Writing scripts containing SQL and SQL*Plus commands</a:t>
            </a:r>
            <a:endParaRPr b="1" lang="en-US" sz="2800" spc="-1" strike="noStrike">
              <a:solidFill>
                <a:srgbClr val="f8f8d3"/>
              </a:solidFill>
              <a:latin typeface="Arial"/>
            </a:endParaRPr>
          </a:p>
          <a:p>
            <a:pPr lvl="1" marL="40680" indent="-27000">
              <a:lnSpc>
                <a:spcPct val="95000"/>
              </a:lnSpc>
              <a:spcBef>
                <a:spcPts val="1225"/>
              </a:spcBef>
              <a:buClr>
                <a:srgbClr val="ffcc66"/>
              </a:buClr>
              <a:buFont typeface="Arial"/>
              <a:buChar char="•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800" spc="-1" strike="noStrike">
                <a:solidFill>
                  <a:srgbClr val="f8f8d3"/>
                </a:solidFill>
                <a:latin typeface="Arial"/>
              </a:rPr>
              <a:t>Generating a simple report</a:t>
            </a:r>
            <a:endParaRPr b="1" lang="en-US" sz="2800" spc="-1" strike="noStrike">
              <a:solidFill>
                <a:srgbClr val="f8f8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7160" y="1794960"/>
            <a:ext cx="7385040" cy="49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7160" y="1794960"/>
            <a:ext cx="7385040" cy="49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57160" y="1794960"/>
            <a:ext cx="7385040" cy="49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7385040" cy="49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7385040" cy="49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7385040" cy="49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2320" y="51084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8960" y="1794960"/>
            <a:ext cx="7385040" cy="49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ulie Rose</dc:creator>
  <dc:description/>
  <dc:language>en-US</dc:language>
  <cp:lastModifiedBy>student</cp:lastModifiedBy>
  <cp:lastPrinted>1998-07-01T18:10:14Z</cp:lastPrinted>
  <dcterms:modified xsi:type="dcterms:W3CDTF">2003-02-28T11:35:57Z</dcterms:modified>
  <cp:revision>163</cp:revision>
  <dc:subject/>
  <dc:title>&lt;Lesson Title&gt;</dc:title>
</cp:coreProperties>
</file>